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png" ContentType="image/png"/>
  <Override PartName="/ppt/media/image25.wmf" ContentType="image/x-wmf"/>
  <Override PartName="/ppt/media/image24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23.png" ContentType="image/png"/>
  <Override PartName="/ppt/media/image26.wmf" ContentType="image/x-wmf"/>
  <Override PartName="/ppt/media/arrow.wav" ContentType="audio/x-wav"/>
  <Override PartName="/ppt/media/image35.png" ContentType="image/png"/>
  <Override PartName="/ppt/media/image29.wmf" ContentType="image/x-wmf"/>
  <Override PartName="/ppt/media/image11.png" ContentType="image/png"/>
  <Override PartName="/ppt/media/image31.jpeg" ContentType="image/jpe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.wmf" ContentType="image/x-wmf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6.png" ContentType="image/png"/>
  <Override PartName="/ppt/media/image5.wmf" ContentType="image/x-wmf"/>
  <Override PartName="/ppt/media/image1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1EF9-0E99-4E1B-84C6-D7966707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1FC-FC10-4165-8729-2B392A59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24D3-DDE7-4670-8776-3C7D5D21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1B30-86AD-4B74-9CC7-5E2CFD14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2AC0-F3E4-4ED8-8E53-6E196390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65D6-22D6-4F4B-A9F8-3D17AE76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4587-2BF7-4A1C-A5D4-E907FC60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2120-3951-47AD-928D-4DF2A7D9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CF36-A23A-4EDA-95B3-E4ED0AA8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0A65-DBB9-422A-B0D9-25B3C988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3CE3-A695-403D-B040-B23A0612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C020-ACF6-4955-9331-69B1FDBA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96C1-4FC4-473B-9D25-9458F424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8E10-DC61-4A34-A60B-34725401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6E6D-1FE5-4BC4-84BC-72981474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DFEB-4B21-4A23-9EE1-72A704B7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4F4E-53F1-4AFB-8A34-1E608D66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AC1E1-9E4E-4C71-AEE1-13796BF6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6C000-2DFE-4E85-8B39-BE1C6029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18CBB-BEF6-41A9-B334-9221E805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1C86B-E177-43E7-95F5-F9F947E2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09489-159B-4B05-81FD-1BF6FC3B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5B11-15CA-45AD-ACA4-33F39D23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2D8FE-1BEE-4FAE-A93C-6F905922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9383D-C2AF-4DDD-B439-C0AE2E49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AFFEE-C9A1-40BC-BE1B-281908B5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F4D70-2A2A-49E1-843E-80C70F53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BBDD3-6131-44B1-BA66-EE23C9B6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B13DB-880D-4FFE-AF48-A5227132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0A237-F213-4CE2-B439-A2A443EC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559D6-1F32-4E11-B2E0-628F1EEE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36A8D-FD0C-43AA-985E-3D5CCA5E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01EA4-9B63-45E3-BDC4-7E83AF2A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1FF-C696-43C4-8555-E201E0A1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A2219-6934-46BB-A7F1-C68AC770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63FEE-F6E8-4012-96DA-E07678D2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025A8-EF08-475E-82BC-6D1382ED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2622F-50A6-4031-B0F6-59910EAD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7EEB8-4326-453A-A583-4E7EF1FC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5F6B8-3575-41F2-9C6A-0E337D88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84509-AC96-4236-A643-6863B5B8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F01A0-4E79-4F98-B1DF-5F281A00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D96B7-B116-4A87-9929-53EB6280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A3B11-2611-4AAF-AFDB-FD37A19B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A8C-9EDC-4BE5-902A-2F479D8B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1BD84-CE93-44A8-86B2-1ADF4721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CF810-9550-47BD-9410-8807DF5A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2B635-FC5A-40F2-A43A-531EA831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D7BF1-96BA-4CEF-8342-0C0AA708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2DCC6-2565-4F9E-BAD1-CFD822A1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346CC-BE92-4ABC-B887-2D1E76E6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F2D82-D3F9-4799-B498-EED22E75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CA1FF-342D-478B-94BF-7993A531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947AB-BC47-4BCA-A22F-DFE79E0A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EE95E-22C6-4B7C-B97D-90B57D43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2E9-0458-4218-BE12-7BD4EB4E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B4F5F-5A38-4098-8049-C2EA3A2F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14551-6C9B-4933-A0B5-289602E6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6AEA2-CCB6-466B-B201-1465C9F3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8CFEB-6A63-4D69-9708-C2959DB5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ED00F-A194-491E-9A47-9DEE7E33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A2864-6517-4AC3-BF17-4D8866A6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85649-0223-4679-986A-C95A501C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55C7A-7ECE-4B17-8092-B6EB4EEC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86AC3-FB94-4932-A95C-5EA17225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3FC1D-8EFB-4FB4-B837-595AE1DD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1C5F-6214-4D28-84CC-8C406028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B0304-7921-469B-B5ED-00591F9F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CF973-4F3B-4AB6-A43E-D98B4D5E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E27C3-C4A0-4C2E-BBF7-5F32E237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720DA-B679-4D6A-9F95-80506751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50AA1-D66D-4961-81E9-00E1182F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B7EBB-5B94-4B82-98BD-2BE6066C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C5899-1965-49A0-A54E-2B0178E9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1E125-3BC0-4AFC-ABFD-2E8AA58F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3ECE9-8FB6-4A1F-A060-1B79D69E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B31BA-31FE-4C23-8EB6-0E7F818D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A25-F0A8-48E9-85F4-B20CBA83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F6963-B10C-4160-A985-BA3B6E14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49186-24E9-43EA-B065-EB8B50D5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83DCB-7FBB-4B3E-8E68-6C174B6A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7E41A-AFB7-4476-ADBE-767C4DAA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ABDB9-B0DA-48E5-A4FB-B35D83B3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3D6-9CEB-4CD1-B310-6DAAF5B7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EC20-8A95-4351-A3EE-6127A75BEF5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379F-A4B1-4E26-87F2-34059F431E21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6269-BEE1-4B23-B7D0-CD6AD7B3E221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2CC4-8EF6-4855-A417-0512436EFB5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3134-29B4-4977-B9FE-486C54DA363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CCE2-1F0A-4D02-9933-F7D99CBBC25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0CD1-0127-4DF9-BBE9-BFCDE22756D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file:///PBSI%20Student%20Teacher%20Survey_V2.ppt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file:///../Calendars/PBSI%20Training%20Calendar%202008_2009.doc" TargetMode="External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04920" y="5168880"/>
            <a:ext cx="8601120" cy="1689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09120" y="837720"/>
            <a:ext cx="8077320" cy="31006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The Meadows Bee Colony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4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4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46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5" descr="C:\Documents and Settings\tmonk\Local Settings\Temporary Internet Files\Content.IE5\0TJEA3ZB\MCj03538580000[1].wmf"/>
          <p:cNvPicPr/>
          <p:nvPr/>
        </p:nvPicPr>
        <p:blipFill>
          <a:blip r:embed="rId2"/>
          <a:stretch/>
        </p:blipFill>
        <p:spPr>
          <a:xfrm>
            <a:off x="533520" y="1905120"/>
            <a:ext cx="79246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creased capacity of staff as trainers and/or lead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monstrations in classrooms that reflect best practices to engage all stude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creased strategies, tools, skills, and processes for handling individual students with severe and/or chronic misbehaviors or complex nee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increase in attendan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32" name="Content Placeholder 5" descr=""/>
          <p:cNvPicPr/>
          <p:nvPr/>
        </p:nvPicPr>
        <p:blipFill>
          <a:blip r:embed="rId2"/>
          <a:stretch/>
        </p:blipFill>
        <p:spPr>
          <a:xfrm>
            <a:off x="450720" y="1768320"/>
            <a:ext cx="8242560" cy="463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 Survey are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eelings about Adults at The Meadow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Know how to behav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acher Survey are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dministration Concer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each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2008 – 2009 dat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Observations were conducted within our common area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Hallway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Cafeteri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Bathroo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Dismissa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7" descr="C:\Users\kbrad1963\AppData\Local\Microsoft\Windows\Temporary Internet Files\Content.IE5\NDCMTWRZ\MPj04393430000[1].jpg"/>
          <p:cNvPicPr/>
          <p:nvPr/>
        </p:nvPicPr>
        <p:blipFill>
          <a:blip r:embed="rId2"/>
          <a:stretch/>
        </p:blipFill>
        <p:spPr>
          <a:xfrm>
            <a:off x="4267080" y="2362320"/>
            <a:ext cx="4160880" cy="416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ultiple observ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ata compiled and review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lans made for intervention and chan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Picture 4" descr="C:\Users\kbrad1963\AppData\Local\Microsoft\Windows\Temporary Internet Files\Content.IE5\40SLSYK2\MCj04103790000[1].wmf"/>
          <p:cNvPicPr/>
          <p:nvPr/>
        </p:nvPicPr>
        <p:blipFill>
          <a:blip r:embed="rId2"/>
          <a:stretch/>
        </p:blipFill>
        <p:spPr>
          <a:xfrm>
            <a:off x="3352680" y="3429000"/>
            <a:ext cx="2133720" cy="25718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C:\Users\kbrad1963\AppData\Local\Microsoft\Windows\Temporary Internet Files\Content.IE5\YBNG5UFL\MCj04369960000[1].wmf"/>
          <p:cNvPicPr/>
          <p:nvPr/>
        </p:nvPicPr>
        <p:blipFill>
          <a:blip r:embed="rId3"/>
          <a:stretch/>
        </p:blipFill>
        <p:spPr>
          <a:xfrm>
            <a:off x="6095880" y="3809880"/>
            <a:ext cx="2724120" cy="2729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C:\Users\kbrad1963\AppData\Local\Microsoft\Windows\Temporary Internet Files\Content.IE5\V8NATY82\MCj01498500000[1].wmf"/>
          <p:cNvPicPr/>
          <p:nvPr/>
        </p:nvPicPr>
        <p:blipFill>
          <a:blip r:embed="rId4"/>
          <a:stretch/>
        </p:blipFill>
        <p:spPr>
          <a:xfrm>
            <a:off x="838080" y="3429000"/>
            <a:ext cx="1782720" cy="16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of observation were not the sa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ack of effective communication between faculty and staff concerning expect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reas of school required more active  monitor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afety issues needed to be address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ack of respect for property and oth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ise level inappropri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s were being willfully disobedi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380880" y="1828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earning Objectiv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ell” Pha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how” Pha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o” Pha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llow-up Less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2008-2009 Calend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Picture 5" descr="C:\Program Files\Microsoft Office\MEDIA\CAGCAT10\j0301252.wmf"/>
          <p:cNvPicPr/>
          <p:nvPr/>
        </p:nvPicPr>
        <p:blipFill>
          <a:blip r:embed="rId3"/>
          <a:stretch/>
        </p:blipFill>
        <p:spPr>
          <a:xfrm>
            <a:off x="4191120" y="2209680"/>
            <a:ext cx="4573440" cy="39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Three B’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ee Respectfu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ee Respons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ee Read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7" descr="C:\Users\kbrad1963\AppData\Local\Microsoft\Windows\Temporary Internet Files\Content.IE5\V8NATY82\MPj04331790000[1].jpg"/>
          <p:cNvPicPr/>
          <p:nvPr/>
        </p:nvPicPr>
        <p:blipFill>
          <a:blip r:embed="rId2"/>
          <a:stretch/>
        </p:blipFill>
        <p:spPr>
          <a:xfrm>
            <a:off x="4038480" y="2362320"/>
            <a:ext cx="487692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Goal: Students at The Meadows Elementary will understand the meaning of the phrase “Bee Line Formation”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tudents will demonstrate an appropriate response to the phras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Bee Line Formation” when standing means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traight  line (one behind the other, or shoulder to shoulder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Facing Forward, with eyes looking straight ahea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Hands are behind your back and hand in hand at your wais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Level Zero, mouths are closed and silen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Keep hands, feet, and other  items to yourself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The Bee Leader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edina Arpel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arde Coo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Kimberly Fis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Kelvin Bradfor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odney Jon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irlean Kirkla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lyson Lewi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inda Marshal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eresa Mon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ora Ramirez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ee Keepers – Faculty and Staff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8" name="Picture 2" descr="C:\Documents and Settings\tmonk\Local Settings\Temporary Internet Files\Content.IE5\2OIH3378\MCj02407790000[1].wmf"/>
          <p:cNvPicPr/>
          <p:nvPr/>
        </p:nvPicPr>
        <p:blipFill>
          <a:blip r:embed="rId2"/>
          <a:stretch/>
        </p:blipFill>
        <p:spPr>
          <a:xfrm>
            <a:off x="533520" y="2057400"/>
            <a:ext cx="2590560" cy="4191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C:\Documents and Settings\tmonk\Local Settings\Temporary Internet Files\Content.IE5\2OIH3378\MCj02407790000[1].wmf"/>
          <p:cNvPicPr/>
          <p:nvPr/>
        </p:nvPicPr>
        <p:blipFill>
          <a:blip r:embed="rId3"/>
          <a:stretch/>
        </p:blipFill>
        <p:spPr>
          <a:xfrm flipH="1">
            <a:off x="6248520" y="2057400"/>
            <a:ext cx="27432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7404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ee Line Formation” when seated mean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Legs crossed, crisscross applesauc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itting tall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Hands on lap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Level Zero, mouths are close and everyone is silen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Keep your hands, feet, and other items to yourself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 Zero: Sil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 One: Soft conversation with the person directly in front of you or to the side of you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 Two: Inside voic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 Three: Outside, play voic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oal: The Meadows hallways will be safe, orderly, clean, and quiet environments where all students demonstrate responsible, appropriate behavior and are ready to interact with others respectfully and courteousl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Expectation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tudents will 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Line up two feet on the red line (two on red) standing tall, mouths closed and silent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Remain silent at all times while in the hall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Walk on the right side of the hall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Walk in a single file, facing forward, at a designated pac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Maintain an arm distance from student in front of them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Walk with their hands behind their back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Walk with their backpacks on both shoulders, or pulling it behind them with one hand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old their lunch bags by their sid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ug their books to their chest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ave a hall pass when not accompanied by an adult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ur Goal: The Meadows Cafeteria  will be a safe, orderly, and clean environment where all students demonstrate responsible, appropriate behavior and are ready to interact with others respectfully and courteousl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Expectation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Enter the cafeteria in Bee Line formatio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f not buying lunch, walk directly to their assigned table and take the first available seat 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Not be allowed to skip or save seat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Begin filling the table starting at the far left-side of the table from 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Form two lines to go single file through the lunch line keeping hands and feet to themselv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Get all needed items before sitting dow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ave a level one conversation once seated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Keep all uneaten food and trash on their trays and dispose of their trash and trays in the trash containe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Return to Level Zero (silent) when directed by teacher and await dismissal instruction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57200" indent="-45720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At 3:05 teachers and students will respond to the first dismissal bell to begin the dismissal proces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0"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buClr>
                <a:srgbClr val="000000"/>
              </a:buClr>
              <a:buSzPct val="80000"/>
              <a:buFont typeface="Corbel"/>
              <a:buAutoNum type="arabicPeriod" startAt="2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Teachers will begin escorting their students into the hallway when all students are prepared to leave.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0"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buClr>
                <a:srgbClr val="000000"/>
              </a:buClr>
              <a:buSzPct val="80000"/>
              <a:buFont typeface="Corbel"/>
              <a:buAutoNum type="arabicPeriod" startAt="2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Teachers will line students up in the hallway near their classroom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0"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buClr>
                <a:srgbClr val="000000"/>
              </a:buClr>
              <a:buSzPct val="80000"/>
              <a:buFont typeface="Corbel"/>
              <a:buAutoNum type="arabicPeriod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At 3:10, daycare, bus riders and encore will respond to the second dismissal bell.  (Noisy hallways will not be dismissed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0"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buClr>
                <a:srgbClr val="000000"/>
              </a:buClr>
              <a:buSzPct val="80000"/>
              <a:buFont typeface="Corbel"/>
              <a:buAutoNum type="arabicPeriod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t 3:15, car riders will respond to the third dismissal bell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6.   Students will walk quietly in a single file line to their destinatio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552600" indent="-343080">
              <a:spcBef>
                <a:spcPts val="499"/>
              </a:spcBef>
              <a:buClr>
                <a:srgbClr val="000000"/>
              </a:buClr>
              <a:buSzPct val="90000"/>
              <a:buFont typeface="Corbel"/>
              <a:buAutoNum type="alpha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Walkers – Exit main entranc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552600" indent="-343080">
              <a:spcBef>
                <a:spcPts val="499"/>
              </a:spcBef>
              <a:buClr>
                <a:srgbClr val="000000"/>
              </a:buClr>
              <a:buSzPct val="90000"/>
              <a:buFont typeface="Corbel"/>
              <a:buAutoNum type="alpha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Encore – Exit and go to the music hal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552600" indent="-343080">
              <a:spcBef>
                <a:spcPts val="499"/>
              </a:spcBef>
              <a:buClr>
                <a:srgbClr val="000000"/>
              </a:buClr>
              <a:buSzPct val="90000"/>
              <a:buFont typeface="Corbel"/>
              <a:buAutoNum type="alpha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Car Riders – South exit of building (700 hall/Gym exit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552600" indent="-343080">
              <a:spcBef>
                <a:spcPts val="499"/>
              </a:spcBef>
              <a:buClr>
                <a:srgbClr val="000000"/>
              </a:buClr>
              <a:buSzPct val="90000"/>
              <a:buFont typeface="Corbel"/>
              <a:buAutoNum type="alpha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Day Care bus riders – Cafeteri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55260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7.   All non-duty teachers will clear their hallway and help in the main hall until all students have exited the building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Corbe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8.   All teachers must be in the hallway everyday. 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No Exceptions No Excus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oals of Supervis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instruct/educate students about expectations in a caring (but firm) wa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prevent misbehavior and to connect with stud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teract positively with students as they pas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37680" cy="12618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 realize that  ALL MEANS ALL. Therefore, I commit to whole heartedly support all expectations set out by the Next Level Positive Behavior Supports Initiativ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 will always supervise in an alert, proactive wa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 will circulate within a group of students, interacting with them in a positive and constructive wa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 will constantly scan an area for potential problems, diffusing them before they aris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 will motivate students to do their best and monitor their behavior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 will always conduct myself as a true professional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Signature  ________________________________                            Date  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1" name="Diagram 19" descr=""/>
          <p:cNvPicPr/>
          <p:nvPr/>
        </p:nvPicPr>
        <p:blipFill>
          <a:blip r:embed="rId2"/>
          <a:stretch/>
        </p:blipFill>
        <p:spPr>
          <a:xfrm>
            <a:off x="1494000" y="1822320"/>
            <a:ext cx="3090600" cy="1590840"/>
          </a:xfrm>
          <a:prstGeom prst="rect">
            <a:avLst/>
          </a:prstGeom>
          <a:ln w="0">
            <a:noFill/>
          </a:ln>
        </p:spPr>
      </p:pic>
      <p:pic>
        <p:nvPicPr>
          <p:cNvPr id="312" name="Diagram 18" descr=""/>
          <p:cNvPicPr/>
          <p:nvPr/>
        </p:nvPicPr>
        <p:blipFill>
          <a:blip r:embed="rId3"/>
          <a:stretch/>
        </p:blipFill>
        <p:spPr>
          <a:xfrm>
            <a:off x="658800" y="3193920"/>
            <a:ext cx="3084480" cy="1517760"/>
          </a:xfrm>
          <a:prstGeom prst="rect">
            <a:avLst/>
          </a:prstGeom>
          <a:ln w="0">
            <a:noFill/>
          </a:ln>
        </p:spPr>
      </p:pic>
      <p:pic>
        <p:nvPicPr>
          <p:cNvPr id="313" name="Diagram 16" descr=""/>
          <p:cNvPicPr/>
          <p:nvPr/>
        </p:nvPicPr>
        <p:blipFill>
          <a:blip r:embed="rId4"/>
          <a:stretch/>
        </p:blipFill>
        <p:spPr>
          <a:xfrm>
            <a:off x="122400" y="4645080"/>
            <a:ext cx="2974680" cy="1365120"/>
          </a:xfrm>
          <a:prstGeom prst="rect">
            <a:avLst/>
          </a:prstGeom>
          <a:ln w="0">
            <a:noFill/>
          </a:ln>
        </p:spPr>
      </p:pic>
      <p:pic>
        <p:nvPicPr>
          <p:cNvPr id="314" name="Content Placeholder 3" descr=""/>
          <p:cNvPicPr/>
          <p:nvPr/>
        </p:nvPicPr>
        <p:blipFill>
          <a:blip r:embed="rId5"/>
          <a:stretch/>
        </p:blipFill>
        <p:spPr>
          <a:xfrm>
            <a:off x="2408400" y="2030400"/>
            <a:ext cx="6643440" cy="424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lnSpc>
                <a:spcPct val="83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lba Super"/>
              </a:rPr>
              <a:t>Honeybees</a:t>
            </a:r>
            <a:r>
              <a:rPr b="0" lang="en-GB" sz="2700" spc="-1" strike="noStrike">
                <a:solidFill>
                  <a:srgbClr val="000000"/>
                </a:solidFill>
                <a:latin typeface="Corbel"/>
              </a:rPr>
              <a:t>- Those students that come to class prepared, excited and willing with their purpose in mind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13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13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lba Super"/>
              </a:rPr>
              <a:t>Worker Bees </a:t>
            </a:r>
            <a:r>
              <a:rPr b="0" lang="en-GB" sz="2700" spc="-1" strike="noStrike">
                <a:solidFill>
                  <a:srgbClr val="000000"/>
                </a:solidFill>
                <a:latin typeface="Corbel"/>
              </a:rPr>
              <a:t>-Those students who attend regularly but who are less involved and are unsure of their purpose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13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13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lba Super"/>
              </a:rPr>
              <a:t>Busy Bees </a:t>
            </a:r>
            <a:r>
              <a:rPr b="0" lang="en-GB" sz="2700" spc="-1" strike="noStrike">
                <a:solidFill>
                  <a:srgbClr val="000000"/>
                </a:solidFill>
                <a:latin typeface="Verdana"/>
              </a:rPr>
              <a:t>-T</a:t>
            </a:r>
            <a:r>
              <a:rPr b="0" lang="en-GB" sz="2700" spc="-1" strike="noStrike">
                <a:solidFill>
                  <a:srgbClr val="000000"/>
                </a:solidFill>
                <a:latin typeface="Corbel"/>
              </a:rPr>
              <a:t>hose students who would rather be anywhere but here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verybody needs to stay in the hive no matter how thick the honey i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ven though you have your own honeycomb, ALL bees are your responsibility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veryone cares for each bee no matter how often you get stung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a bee needs repeated direction, you must maintain a respectful attitud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ome bees may have “large stingers” and may require more of your time and c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f a bee should have an accident, you must give “bee”-nevolence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7404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All beehive duties “START ON TIME”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All designated areas remain well organized to promote a safe, civil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and productive environment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All bees are greeted pleasantly throughout the day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249120" y="66600"/>
            <a:ext cx="8444160" cy="13478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3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Structure our environment for succ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4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Establish clear and firm limi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4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Teach Responsibi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4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Be Positiv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4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Communicate high expectations of succ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4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Allow flexibility for classroom teache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3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A more positive or invitational clima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3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A safer campus environme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3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Increased staff consistency regarding behavioral    expectatio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3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A systematic approach for gathering and collecting dat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3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Effective use of data to drive the decision-making proces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3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Improvement in academic performan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significant decrease in office referral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hange in office referrals that reflects a decrease in serious misbehavio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 increase in staff satisfac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 increase in staff reten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process that allows a campus to work more effectively toge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written curriculum of responsibility to include clear and specific behavioral expectations for all common area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2:27:37Z</dcterms:created>
  <dc:creator>tmonk</dc:creator>
  <dc:description/>
  <dc:language>en-US</dc:language>
  <cp:lastModifiedBy>kbrad1963</cp:lastModifiedBy>
  <dcterms:modified xsi:type="dcterms:W3CDTF">2009-08-16T16:35:29Z</dcterms:modified>
  <cp:revision>48</cp:revision>
  <dc:subject/>
  <dc:title>Buzzing our Way to Exemplary</dc:title>
</cp:coreProperties>
</file>